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FD4E-4FA1-4A0F-B9D7-923E60F74E1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ise and Fall of the Populist Part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7-189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and Fall of the Populist Par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7-189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’ Problem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prices for cro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 had no cash . . .went further into debt. . . foreclosed on mortga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lroads charged outrageous prices to ship crops (no regulation!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’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prices fo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had no cash . . .went further into debt. . . foreclosed on mortg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roads charged outrageous prices to ship crops (no regulation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’ Demand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ulate the railroad companies! (stop them from charging such high rat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ke cash more available (back the dollar with silver, not gold, so dollar will be worth les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tical demands: single term for President and Vice-President; secret ballot; popular election of Sen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get industrial workers to support them: 8-hour workday; restrict immig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’ Dema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the railroad companies! (stop them from charging such high r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ash more available (back the dollar with silver, not gold, so dollar will be worth l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demands: single term for President and Vice-President; secret ballot; popular election of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dustrial workers to support them: 8-hour workday; restric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 Groups Representing Farmers’ Intere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7:  The Patrons of Husbandry (The Grang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80s:  Farmers’ Alliance and Colored Farmers’ National Alli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2:  Birth of the Populist, or People’s Par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Groups Representing Farmers’ Inte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7:  The Patrons of Husbandry (The G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0s:  Farmers’ Alliance and Colored Farmers’ National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2:  Birth of the Populist, or People’s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6 Ele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pulists decide to improve their chances by supporting a Democratic candidate: William Jennings Bryan, who agreed to support the Silver-backed dolla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6 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ists decide to improve their chances by supporting a Democratic candidate: William Jennings Bryan, who agreed to support the Silver-backed dol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C6C6-9098-417E-A83F-B3BD4F2F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851-6F37-401E-B51E-1BA0F9A5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4FA7-07AE-4909-AF3E-5A377CD0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205-AF6C-4AD8-901C-A093B467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870D-6CD2-4F6A-97A1-3E81C742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5C2-E900-42E4-AAD4-D8351D0C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5510-FC80-41EA-B092-742D8479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15C-6407-4F32-B71B-394E13FE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AE8-5BD6-4BD8-90A0-634AA1B2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B52F-49E5-4C0E-9278-845327E3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756-5F8C-4BB8-B16F-4BE7EEB0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BC5-7B74-488C-953F-E60FA348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92D6-4664-4ACF-B505-3424BCD3BF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ise and Fall of the Populist Par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67-189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Proble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prices for cr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mers had no cash . . .went further into debt. . . foreclosed on mortg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lroads charged outrageous prices to ship crops (no regulation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Deman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 the railroad companies! (stop them from charging such high r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ash more available (back the dollar with silver, not gold, so dollar will be worth l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demands: single term for President and Vice-President; secret ballot; popular election of Sen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industrial workers to support them: 8-hour workday; restrict im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Groups Representing Farmers’ Inter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7:  The Patrons of Husbandry (The Gran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80s:  Farmers’ Alliance and Colored Farmers’ National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92:  Birth of the Populist, or People’s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map 1892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244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96 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ists decide to improve their chances by supporting a Democratic candidate: William Jennings Bryan, who agreed to support the Silver-backed dol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2133720" y="2971800"/>
          <a:ext cx="5630760" cy="346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563076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map 1896"/>
          <p:cNvPicPr/>
          <p:nvPr/>
        </p:nvPicPr>
        <p:blipFill>
          <a:blip r:embed="rId1"/>
          <a:stretch/>
        </p:blipFill>
        <p:spPr>
          <a:xfrm>
            <a:off x="0" y="1506600"/>
            <a:ext cx="9144000" cy="4960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4:38:46Z</dcterms:created>
  <dc:creator>Abby Reisman</dc:creator>
  <dc:description/>
  <dc:language>en-US</dc:language>
  <cp:lastModifiedBy>Legion</cp:lastModifiedBy>
  <dcterms:modified xsi:type="dcterms:W3CDTF">2017-07-05T13:24:08Z</dcterms:modified>
  <cp:revision>19</cp:revision>
  <dc:subject/>
  <dc:title>PowerPoint Presentation</dc:title>
</cp:coreProperties>
</file>